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99B-5344-40D0-A7BE-6BD522BF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260-DEC8-4345-A5EF-784A840C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C71-D27D-4DB4-BE18-47DE2EF4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FD6-F38B-4507-8FEA-209556F4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C7EF-DABB-4B22-8911-839C2943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AB1D-3AE4-4DEB-9678-7ED47B17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489-D688-443A-BFEB-410C630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4B9B-C9D3-4C43-9535-7E9786F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D04-29C1-4C20-B944-D39EC3B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C96-4D5C-4503-92B9-A18059B7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09FB-C5BC-416B-8E14-B400E09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B1D-85BA-4E1F-9F7C-3A2D7E7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F649-4E12-4513-8D1B-5CBE50D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A00C-42F3-4D30-8FDB-24C8549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BC29-6A98-4B73-BE80-1C4B2DC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77E-5D4E-443E-8520-F7AD2227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443-F21F-4AC4-8A98-9F741329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3E5-6594-40B5-A7BD-77725656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D96-4099-436F-B887-3DB5DD2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FA0-C86F-4856-8F6C-56FBC16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211-B46D-4C85-9658-09B1FAE8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2B6-47C0-4ACC-8C43-700DAC0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304-2CBE-450F-9835-57F418A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433-6D71-4CF5-896D-8154F1C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7F2B-852F-4B90-A541-A342E8AAA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B135-69C1-44C1-A212-5E16D40A8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llusc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lum Mollus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lu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lus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ins the soft-bod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vertebr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that mollusks do not have a back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381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e Major Mollusk Class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in classes under Mollusca.  They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r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“stomach-footed” mollusks li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n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valv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“two-shelled mollusks” like oysters, clams, mu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phal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“cephalopods” like the squid, octopus, and cuttle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2324160" cy="1936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27622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6:49:02Z</dcterms:created>
  <dc:creator>kmcgrady</dc:creator>
  <dc:description/>
  <dc:language>en-US</dc:language>
  <cp:lastModifiedBy>kmcgrady</cp:lastModifiedBy>
  <dcterms:modified xsi:type="dcterms:W3CDTF">2011-02-22T17:28:16Z</dcterms:modified>
  <cp:revision>2</cp:revision>
  <dc:subject/>
  <dc:title>Mollusca</dc:title>
</cp:coreProperties>
</file>